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media/image13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5084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6800" y="734760"/>
            <a:ext cx="4908600" cy="367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824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50840" y="931824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958D-52F1-4497-8845-0024ECF4FC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662C-9C76-4026-A00D-86B862EEC4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CACC-2AE9-4C86-96D1-357E9A10DB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4E7B-197B-44AF-B561-8D7220BEDD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5BCE-D188-416D-BEC8-A410DA19F3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7D24-835E-4BD6-BAD9-523CBC9C9B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C4A8-F5EE-4164-8B91-6ABD5061C9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88D2-5A4A-4AB4-9CA5-7716D39CD3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4298-01BA-413B-950D-2AC047AA5D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8959-4B7F-4EF0-9774-ECB9C347B1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B4E0-FCDA-4256-AAC7-0A66DBFBAF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2A54-B206-440A-83EE-9DBF0CE7A4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E6BA-3E55-4071-9352-9BFF86E3D6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EDA7-DAD2-40C2-AFF8-0F41745965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AAC6-47B4-4518-A239-813F9AEFE4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3F8A-5814-4A9E-852E-37830106B7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54E3-EFDE-4DEB-A7DA-8A99D804B8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33EE-3217-4856-8278-56DB5D5D32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D154-8B1B-469E-8491-C5C89E3D5B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ADF4-D327-4BA3-939E-865E016C44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0894-0B6E-4925-B597-B8AAE9BAD4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699E-DD88-4AB3-B45C-0B55932D74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7BC2-C27A-4566-BF66-37B545ACA7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544D-AAA8-445B-AE93-2EF734C635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0894-1324-4C65-B4D7-8D8064980D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D719-5DC4-4078-A198-F10D2FFEFE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D04B-E714-4E94-8663-CB8795138C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F872-1D36-4C46-8F12-B2E4EADC52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2D73-86B2-491E-9709-72A0862BA2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B97F-FC2B-4F07-BB1E-3B32E71AEE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9D6C-9A36-4D00-A18E-F5BD74E419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FC3B-ECCA-4B08-A3E4-F22512713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0E59-20F3-4BA4-A540-D62BFDA1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3E51-1AC1-4635-B557-C13F72F94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C3C9-5DA7-40E2-ADB6-33710B3EE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E1EE-4485-44F4-884D-67400281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1076-A012-4A25-8E5C-52F85C9B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10F1-212D-483B-AE1B-042B7C32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E736-2835-4DA9-A017-7F43A268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DAB7-1C17-4846-8869-D440F065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B511-E026-4628-B18C-098933AD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643B-177C-4A66-A12B-00851516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1754-96A9-45E0-925D-56750BC8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9642-ECA5-4B8B-B679-40530700828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apcsc.info/Publication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rengths &amp; Limitations of existing data sources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Julia Critchley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imon Capewell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     </a:t>
            </a: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LIMIT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Reliable indicators for monitoring CVD and for which data are available on a comparable basis across EU countries are currently limite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Even mortality is scarcely comparable since the diagnostic criteria for coding death certificates are not standardized at international level and diagnostic information is not based on uniform criter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47c06"/>
                </a:solidFill>
                <a:latin typeface="Arial"/>
              </a:rPr>
              <a:t>CVD international sources include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WHO-mort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WHO-MO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EUROCISS inventory of population-based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47c06"/>
                </a:solidFill>
                <a:latin typeface="Arial"/>
              </a:rPr>
              <a:t>Mortality data avail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5075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WHO HFA, EURO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54800"/>
                </a:solidFill>
                <a:latin typeface="Arial"/>
              </a:rPr>
              <a:t>Age: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 0-64, 65+, 25-64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0-14, 15-29, 30-44, 45-59, 60-74, 75+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from WHO-HF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54800"/>
                </a:solidFill>
                <a:latin typeface="Arial"/>
              </a:rPr>
              <a:t>0-84 by 5-year age groups, 85+, 0-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from EURO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54800"/>
                </a:solidFill>
                <a:latin typeface="Arial"/>
              </a:rPr>
              <a:t>for CHD and STR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0" y="1544760"/>
          <a:ext cx="8928000" cy="303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44760"/>
                    <a:ext cx="8928000" cy="30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73240" y="609480"/>
            <a:ext cx="4492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be0e3"/>
                </a:solidFill>
                <a:latin typeface="Arial"/>
              </a:rPr>
              <a:t>Participating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-9205920" y="-87361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K. Steinbac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-9205920" y="-7608960"/>
            <a:ext cx="15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BELGIU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-9205920" y="-64818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-9205920" y="717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-9205920" y="46134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the NETHERL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-9205920" y="6624720"/>
            <a:ext cx="914400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S. Graff-Ivers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-9205920" y="136191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. Primate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-9205920" y="143208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-9205920" y="155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-9205920" y="155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-9205920" y="155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-9205920" y="155242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-9205920" y="16087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6"/>
          <p:cNvGrpSpPr/>
          <p:nvPr/>
        </p:nvGrpSpPr>
        <p:grpSpPr>
          <a:xfrm>
            <a:off x="-9212400" y="-9867960"/>
            <a:ext cx="27568800" cy="5965920"/>
            <a:chOff x="-9212400" y="-9867960"/>
            <a:chExt cx="27568800" cy="5965920"/>
          </a:xfrm>
        </p:grpSpPr>
        <p:grpSp>
          <p:nvGrpSpPr>
            <p:cNvPr id="91" name="Group 17"/>
            <p:cNvGrpSpPr/>
            <p:nvPr/>
          </p:nvGrpSpPr>
          <p:grpSpPr>
            <a:xfrm>
              <a:off x="-9208080" y="-9863280"/>
              <a:ext cx="27559800" cy="5956200"/>
              <a:chOff x="-9208080" y="-9863280"/>
              <a:chExt cx="27559800" cy="5956200"/>
            </a:xfrm>
          </p:grpSpPr>
          <p:grpSp>
            <p:nvGrpSpPr>
              <p:cNvPr id="92" name="Group 18"/>
              <p:cNvGrpSpPr/>
              <p:nvPr/>
            </p:nvGrpSpPr>
            <p:grpSpPr>
              <a:xfrm>
                <a:off x="-9208080" y="-9863280"/>
                <a:ext cx="1908000" cy="974880"/>
                <a:chOff x="-9208080" y="-9863280"/>
                <a:chExt cx="1908000" cy="974880"/>
              </a:xfrm>
            </p:grpSpPr>
            <p:sp>
              <p:nvSpPr>
                <p:cNvPr id="93" name="Rectangle 19"/>
                <p:cNvSpPr/>
                <p:nvPr/>
              </p:nvSpPr>
              <p:spPr>
                <a:xfrm>
                  <a:off x="-9168480" y="-9863280"/>
                  <a:ext cx="1828800" cy="97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AUSTRI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Rectangle 20"/>
                <p:cNvSpPr/>
                <p:nvPr/>
              </p:nvSpPr>
              <p:spPr>
                <a:xfrm>
                  <a:off x="-9208080" y="-9863280"/>
                  <a:ext cx="1908000" cy="97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" name="Group 21"/>
              <p:cNvGrpSpPr/>
              <p:nvPr/>
            </p:nvGrpSpPr>
            <p:grpSpPr>
              <a:xfrm>
                <a:off x="-7299720" y="-9863280"/>
                <a:ext cx="1908000" cy="974880"/>
                <a:chOff x="-7299720" y="-9863280"/>
                <a:chExt cx="1908000" cy="974880"/>
              </a:xfrm>
            </p:grpSpPr>
            <p:grpSp>
              <p:nvGrpSpPr>
                <p:cNvPr id="96" name="Group 22"/>
                <p:cNvGrpSpPr/>
                <p:nvPr/>
              </p:nvGrpSpPr>
              <p:grpSpPr>
                <a:xfrm>
                  <a:off x="-7260120" y="-9863280"/>
                  <a:ext cx="1828800" cy="974880"/>
                  <a:chOff x="-7260120" y="-9863280"/>
                  <a:chExt cx="1828800" cy="974880"/>
                </a:xfrm>
              </p:grpSpPr>
              <p:sp>
                <p:nvSpPr>
                  <p:cNvPr id="97" name="Rectangle 23"/>
                  <p:cNvSpPr/>
                  <p:nvPr/>
                </p:nvSpPr>
                <p:spPr>
                  <a:xfrm>
                    <a:off x="-7260120" y="-9863280"/>
                    <a:ext cx="18288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700" spc="-1" strike="noStrike">
                        <a:solidFill>
                          <a:srgbClr val="000000"/>
                        </a:solidFill>
                        <a:latin typeface="Arial"/>
                      </a:rPr>
                      <a:t> 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Rectangle 24"/>
                  <p:cNvSpPr/>
                  <p:nvPr/>
                </p:nvSpPr>
                <p:spPr>
                  <a:xfrm>
                    <a:off x="-7260120" y="-9345600"/>
                    <a:ext cx="182880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Rectangle 25"/>
                  <p:cNvSpPr/>
                  <p:nvPr/>
                </p:nvSpPr>
                <p:spPr>
                  <a:xfrm>
                    <a:off x="-7260120" y="-9345600"/>
                    <a:ext cx="182880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Rectangle 26"/>
                  <p:cNvSpPr/>
                  <p:nvPr/>
                </p:nvSpPr>
                <p:spPr>
                  <a:xfrm>
                    <a:off x="-7260120" y="-9299520"/>
                    <a:ext cx="1828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pPr>
                      <a:lnSpc>
                        <a:spcPct val="9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" name="Rectangle 27"/>
                <p:cNvSpPr/>
                <p:nvPr/>
              </p:nvSpPr>
              <p:spPr>
                <a:xfrm>
                  <a:off x="-7299720" y="-9863280"/>
                  <a:ext cx="1908000" cy="97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Group 28"/>
              <p:cNvGrpSpPr/>
              <p:nvPr/>
            </p:nvGrpSpPr>
            <p:grpSpPr>
              <a:xfrm>
                <a:off x="-9208080" y="-8888400"/>
                <a:ext cx="1908000" cy="563400"/>
                <a:chOff x="-9208080" y="-8888400"/>
                <a:chExt cx="1908000" cy="563400"/>
              </a:xfrm>
            </p:grpSpPr>
            <p:sp>
              <p:nvSpPr>
                <p:cNvPr id="103" name="Rectangle 29"/>
                <p:cNvSpPr/>
                <p:nvPr/>
              </p:nvSpPr>
              <p:spPr>
                <a:xfrm>
                  <a:off x="-9168480" y="-888840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30"/>
                <p:cNvSpPr/>
                <p:nvPr/>
              </p:nvSpPr>
              <p:spPr>
                <a:xfrm>
                  <a:off x="-9208080" y="-888840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" name="Group 31"/>
              <p:cNvGrpSpPr/>
              <p:nvPr/>
            </p:nvGrpSpPr>
            <p:grpSpPr>
              <a:xfrm>
                <a:off x="-7299720" y="-8888400"/>
                <a:ext cx="1908000" cy="563400"/>
                <a:chOff x="-7299720" y="-8888400"/>
                <a:chExt cx="1908000" cy="563400"/>
              </a:xfrm>
            </p:grpSpPr>
            <p:sp>
              <p:nvSpPr>
                <p:cNvPr id="106" name="Rectangle 32"/>
                <p:cNvSpPr/>
                <p:nvPr/>
              </p:nvSpPr>
              <p:spPr>
                <a:xfrm>
                  <a:off x="-7260120" y="-888840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M. Kornitzer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33"/>
                <p:cNvSpPr/>
                <p:nvPr/>
              </p:nvSpPr>
              <p:spPr>
                <a:xfrm>
                  <a:off x="-7299720" y="-888840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Group 34"/>
              <p:cNvGrpSpPr/>
              <p:nvPr/>
            </p:nvGrpSpPr>
            <p:grpSpPr>
              <a:xfrm>
                <a:off x="-9208080" y="-8325000"/>
                <a:ext cx="1908000" cy="563400"/>
                <a:chOff x="-9208080" y="-8325000"/>
                <a:chExt cx="1908000" cy="563400"/>
              </a:xfrm>
            </p:grpSpPr>
            <p:sp>
              <p:nvSpPr>
                <p:cNvPr id="109" name="Rectangle 35"/>
                <p:cNvSpPr/>
                <p:nvPr/>
              </p:nvSpPr>
              <p:spPr>
                <a:xfrm>
                  <a:off x="-9168480" y="-832500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DENMARK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Rectangle 36"/>
                <p:cNvSpPr/>
                <p:nvPr/>
              </p:nvSpPr>
              <p:spPr>
                <a:xfrm>
                  <a:off x="-9208080" y="-832500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Group 37"/>
              <p:cNvGrpSpPr/>
              <p:nvPr/>
            </p:nvGrpSpPr>
            <p:grpSpPr>
              <a:xfrm>
                <a:off x="-7299720" y="-8325000"/>
                <a:ext cx="1908000" cy="563400"/>
                <a:chOff x="-7299720" y="-8325000"/>
                <a:chExt cx="1908000" cy="563400"/>
              </a:xfrm>
            </p:grpSpPr>
            <p:sp>
              <p:nvSpPr>
                <p:cNvPr id="112" name="Rectangle 38"/>
                <p:cNvSpPr/>
                <p:nvPr/>
              </p:nvSpPr>
              <p:spPr>
                <a:xfrm>
                  <a:off x="-7260120" y="-832500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M. Madse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Rectangle 39"/>
                <p:cNvSpPr/>
                <p:nvPr/>
              </p:nvSpPr>
              <p:spPr>
                <a:xfrm>
                  <a:off x="-7299720" y="-832500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Group 40"/>
              <p:cNvGrpSpPr/>
              <p:nvPr/>
            </p:nvGrpSpPr>
            <p:grpSpPr>
              <a:xfrm>
                <a:off x="-9208080" y="-7761600"/>
                <a:ext cx="1908000" cy="563760"/>
                <a:chOff x="-9208080" y="-7761600"/>
                <a:chExt cx="1908000" cy="563760"/>
              </a:xfrm>
            </p:grpSpPr>
            <p:sp>
              <p:nvSpPr>
                <p:cNvPr id="115" name="Rectangle 41"/>
                <p:cNvSpPr/>
                <p:nvPr/>
              </p:nvSpPr>
              <p:spPr>
                <a:xfrm>
                  <a:off x="-9168480" y="-7761600"/>
                  <a:ext cx="1828800" cy="56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FINLAND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Rectangle 42"/>
                <p:cNvSpPr/>
                <p:nvPr/>
              </p:nvSpPr>
              <p:spPr>
                <a:xfrm>
                  <a:off x="-9208080" y="-7761600"/>
                  <a:ext cx="1908000" cy="56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43"/>
              <p:cNvGrpSpPr/>
              <p:nvPr/>
            </p:nvGrpSpPr>
            <p:grpSpPr>
              <a:xfrm>
                <a:off x="-7299720" y="-7761600"/>
                <a:ext cx="1908000" cy="563760"/>
                <a:chOff x="-7299720" y="-7761600"/>
                <a:chExt cx="1908000" cy="563760"/>
              </a:xfrm>
            </p:grpSpPr>
            <p:sp>
              <p:nvSpPr>
                <p:cNvPr id="118" name="Rectangle 44"/>
                <p:cNvSpPr/>
                <p:nvPr/>
              </p:nvSpPr>
              <p:spPr>
                <a:xfrm>
                  <a:off x="-7260120" y="-7761600"/>
                  <a:ext cx="1828800" cy="56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V. Saloma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Rectangle 45"/>
                <p:cNvSpPr/>
                <p:nvPr/>
              </p:nvSpPr>
              <p:spPr>
                <a:xfrm>
                  <a:off x="-7299720" y="-7761600"/>
                  <a:ext cx="1908000" cy="56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46"/>
              <p:cNvGrpSpPr/>
              <p:nvPr/>
            </p:nvGrpSpPr>
            <p:grpSpPr>
              <a:xfrm>
                <a:off x="-9208080" y="-7197840"/>
                <a:ext cx="1908000" cy="563400"/>
                <a:chOff x="-9208080" y="-7197840"/>
                <a:chExt cx="1908000" cy="563400"/>
              </a:xfrm>
            </p:grpSpPr>
            <p:sp>
              <p:nvSpPr>
                <p:cNvPr id="121" name="Rectangle 47"/>
                <p:cNvSpPr/>
                <p:nvPr/>
              </p:nvSpPr>
              <p:spPr>
                <a:xfrm>
                  <a:off x="-9168480" y="-719784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france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Rectangle 48"/>
                <p:cNvSpPr/>
                <p:nvPr/>
              </p:nvSpPr>
              <p:spPr>
                <a:xfrm>
                  <a:off x="-9208080" y="-719784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49"/>
              <p:cNvGrpSpPr/>
              <p:nvPr/>
            </p:nvGrpSpPr>
            <p:grpSpPr>
              <a:xfrm>
                <a:off x="-7299720" y="-7197840"/>
                <a:ext cx="1908000" cy="563400"/>
                <a:chOff x="-7299720" y="-7197840"/>
                <a:chExt cx="1908000" cy="563400"/>
              </a:xfrm>
            </p:grpSpPr>
            <p:sp>
              <p:nvSpPr>
                <p:cNvPr id="124" name="Rectangle 50"/>
                <p:cNvSpPr/>
                <p:nvPr/>
              </p:nvSpPr>
              <p:spPr>
                <a:xfrm>
                  <a:off x="-7260120" y="-719784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S. Paterniti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Rectangle 51"/>
                <p:cNvSpPr/>
                <p:nvPr/>
              </p:nvSpPr>
              <p:spPr>
                <a:xfrm>
                  <a:off x="-7299720" y="-719784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52"/>
              <p:cNvGrpSpPr/>
              <p:nvPr/>
            </p:nvGrpSpPr>
            <p:grpSpPr>
              <a:xfrm>
                <a:off x="-9208080" y="-6634440"/>
                <a:ext cx="1908000" cy="746280"/>
                <a:chOff x="-9208080" y="-6634440"/>
                <a:chExt cx="1908000" cy="746280"/>
              </a:xfrm>
            </p:grpSpPr>
            <p:sp>
              <p:nvSpPr>
                <p:cNvPr id="127" name="Rectangle 53"/>
                <p:cNvSpPr/>
                <p:nvPr/>
              </p:nvSpPr>
              <p:spPr>
                <a:xfrm>
                  <a:off x="-9168480" y="-6634440"/>
                  <a:ext cx="182880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GERMANY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Rectangle 54"/>
                <p:cNvSpPr/>
                <p:nvPr/>
              </p:nvSpPr>
              <p:spPr>
                <a:xfrm>
                  <a:off x="-9208080" y="-6634440"/>
                  <a:ext cx="190800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55"/>
              <p:cNvGrpSpPr/>
              <p:nvPr/>
            </p:nvGrpSpPr>
            <p:grpSpPr>
              <a:xfrm>
                <a:off x="-7299720" y="-6634440"/>
                <a:ext cx="1908000" cy="746280"/>
                <a:chOff x="-7299720" y="-6634440"/>
                <a:chExt cx="1908000" cy="746280"/>
              </a:xfrm>
            </p:grpSpPr>
            <p:sp>
              <p:nvSpPr>
                <p:cNvPr id="130" name="Rectangle 56"/>
                <p:cNvSpPr/>
                <p:nvPr/>
              </p:nvSpPr>
              <p:spPr>
                <a:xfrm>
                  <a:off x="-7260120" y="-6634440"/>
                  <a:ext cx="182880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A. Doring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57"/>
                <p:cNvSpPr/>
                <p:nvPr/>
              </p:nvSpPr>
              <p:spPr>
                <a:xfrm>
                  <a:off x="-7299720" y="-6634440"/>
                  <a:ext cx="190800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58"/>
              <p:cNvGrpSpPr/>
              <p:nvPr/>
            </p:nvGrpSpPr>
            <p:grpSpPr>
              <a:xfrm>
                <a:off x="-9208080" y="-5888160"/>
                <a:ext cx="1908000" cy="1198440"/>
                <a:chOff x="-9208080" y="-5888160"/>
                <a:chExt cx="1908000" cy="1198440"/>
              </a:xfrm>
            </p:grpSpPr>
            <p:sp>
              <p:nvSpPr>
                <p:cNvPr id="133" name="Rectangle 59"/>
                <p:cNvSpPr/>
                <p:nvPr/>
              </p:nvSpPr>
              <p:spPr>
                <a:xfrm>
                  <a:off x="-916848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ITALY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60"/>
                <p:cNvSpPr/>
                <p:nvPr/>
              </p:nvSpPr>
              <p:spPr>
                <a:xfrm>
                  <a:off x="-920808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Group 61"/>
              <p:cNvGrpSpPr/>
              <p:nvPr/>
            </p:nvGrpSpPr>
            <p:grpSpPr>
              <a:xfrm>
                <a:off x="-7299720" y="-5888160"/>
                <a:ext cx="1908000" cy="1198440"/>
                <a:chOff x="-7299720" y="-5888160"/>
                <a:chExt cx="1908000" cy="1198440"/>
              </a:xfrm>
            </p:grpSpPr>
            <p:sp>
              <p:nvSpPr>
                <p:cNvPr id="136" name="Rectangle 62"/>
                <p:cNvSpPr/>
                <p:nvPr/>
              </p:nvSpPr>
              <p:spPr>
                <a:xfrm>
                  <a:off x="-72601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S. Giampaoli, L. Palmieri, S. Panico,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F. Seccareccia, D. Vanuzzo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63"/>
                <p:cNvSpPr/>
                <p:nvPr/>
              </p:nvSpPr>
              <p:spPr>
                <a:xfrm>
                  <a:off x="-729972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Group 64"/>
              <p:cNvGrpSpPr/>
              <p:nvPr/>
            </p:nvGrpSpPr>
            <p:grpSpPr>
              <a:xfrm>
                <a:off x="-5391720" y="-5888160"/>
                <a:ext cx="1908000" cy="1198440"/>
                <a:chOff x="-5391720" y="-5888160"/>
                <a:chExt cx="1908000" cy="1198440"/>
              </a:xfrm>
            </p:grpSpPr>
            <p:sp>
              <p:nvSpPr>
                <p:cNvPr id="139" name="Rectangle 65"/>
                <p:cNvSpPr/>
                <p:nvPr/>
              </p:nvSpPr>
              <p:spPr>
                <a:xfrm>
                  <a:off x="-53521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ICELAND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Rectangle 66"/>
                <p:cNvSpPr/>
                <p:nvPr/>
              </p:nvSpPr>
              <p:spPr>
                <a:xfrm>
                  <a:off x="-539172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Group 67"/>
              <p:cNvGrpSpPr/>
              <p:nvPr/>
            </p:nvGrpSpPr>
            <p:grpSpPr>
              <a:xfrm>
                <a:off x="-3483720" y="-5888160"/>
                <a:ext cx="1908000" cy="1198440"/>
                <a:chOff x="-3483720" y="-5888160"/>
                <a:chExt cx="1908000" cy="1198440"/>
              </a:xfrm>
            </p:grpSpPr>
            <p:sp>
              <p:nvSpPr>
                <p:cNvPr id="142" name="Rectangle 68"/>
                <p:cNvSpPr/>
                <p:nvPr/>
              </p:nvSpPr>
              <p:spPr>
                <a:xfrm>
                  <a:off x="-34441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V. Gudnaso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69"/>
                <p:cNvSpPr/>
                <p:nvPr/>
              </p:nvSpPr>
              <p:spPr>
                <a:xfrm>
                  <a:off x="-348372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70"/>
              <p:cNvGrpSpPr/>
              <p:nvPr/>
            </p:nvGrpSpPr>
            <p:grpSpPr>
              <a:xfrm>
                <a:off x="-1575360" y="-5888160"/>
                <a:ext cx="1908000" cy="1198440"/>
                <a:chOff x="-1575360" y="-5888160"/>
                <a:chExt cx="1908000" cy="1198440"/>
              </a:xfrm>
            </p:grpSpPr>
            <p:sp>
              <p:nvSpPr>
                <p:cNvPr id="145" name="Rectangle 71"/>
                <p:cNvSpPr/>
                <p:nvPr/>
              </p:nvSpPr>
              <p:spPr>
                <a:xfrm>
                  <a:off x="-153576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GREECE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Rectangle 72"/>
                <p:cNvSpPr/>
                <p:nvPr/>
              </p:nvSpPr>
              <p:spPr>
                <a:xfrm>
                  <a:off x="-157536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Group 73"/>
              <p:cNvGrpSpPr/>
              <p:nvPr/>
            </p:nvGrpSpPr>
            <p:grpSpPr>
              <a:xfrm>
                <a:off x="332280" y="-5888160"/>
                <a:ext cx="1908000" cy="1198440"/>
                <a:chOff x="332280" y="-5888160"/>
                <a:chExt cx="1908000" cy="1198440"/>
              </a:xfrm>
            </p:grpSpPr>
            <p:sp>
              <p:nvSpPr>
                <p:cNvPr id="148" name="Rectangle 74"/>
                <p:cNvSpPr/>
                <p:nvPr/>
              </p:nvSpPr>
              <p:spPr>
                <a:xfrm>
                  <a:off x="3715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A. Trichopoulou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Rectangle 75"/>
                <p:cNvSpPr/>
                <p:nvPr/>
              </p:nvSpPr>
              <p:spPr>
                <a:xfrm>
                  <a:off x="33228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76"/>
              <p:cNvGrpSpPr/>
              <p:nvPr/>
            </p:nvGrpSpPr>
            <p:grpSpPr>
              <a:xfrm>
                <a:off x="2240280" y="-5888160"/>
                <a:ext cx="1908000" cy="1198440"/>
                <a:chOff x="2240280" y="-5888160"/>
                <a:chExt cx="1908000" cy="1198440"/>
              </a:xfrm>
            </p:grpSpPr>
            <p:sp>
              <p:nvSpPr>
                <p:cNvPr id="151" name="Rectangle 77"/>
                <p:cNvSpPr/>
                <p:nvPr/>
              </p:nvSpPr>
              <p:spPr>
                <a:xfrm>
                  <a:off x="22795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Rectangle 78"/>
                <p:cNvSpPr/>
                <p:nvPr/>
              </p:nvSpPr>
              <p:spPr>
                <a:xfrm>
                  <a:off x="224028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79"/>
              <p:cNvGrpSpPr/>
              <p:nvPr/>
            </p:nvGrpSpPr>
            <p:grpSpPr>
              <a:xfrm>
                <a:off x="-9208080" y="-4689720"/>
                <a:ext cx="1908000" cy="782640"/>
                <a:chOff x="-9208080" y="-4689720"/>
                <a:chExt cx="1908000" cy="782640"/>
              </a:xfrm>
            </p:grpSpPr>
            <p:sp>
              <p:nvSpPr>
                <p:cNvPr id="154" name="Rectangle 80"/>
                <p:cNvSpPr/>
                <p:nvPr/>
              </p:nvSpPr>
              <p:spPr>
                <a:xfrm>
                  <a:off x="-916848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M. Verschure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Rectangle 81"/>
                <p:cNvSpPr/>
                <p:nvPr/>
              </p:nvSpPr>
              <p:spPr>
                <a:xfrm>
                  <a:off x="-920808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Group 82"/>
              <p:cNvGrpSpPr/>
              <p:nvPr/>
            </p:nvGrpSpPr>
            <p:grpSpPr>
              <a:xfrm>
                <a:off x="-7299720" y="-4689720"/>
                <a:ext cx="1908000" cy="782640"/>
                <a:chOff x="-7299720" y="-4689720"/>
                <a:chExt cx="1908000" cy="782640"/>
              </a:xfrm>
            </p:grpSpPr>
            <p:sp>
              <p:nvSpPr>
                <p:cNvPr id="157" name="Rectangle 83"/>
                <p:cNvSpPr/>
                <p:nvPr/>
              </p:nvSpPr>
              <p:spPr>
                <a:xfrm>
                  <a:off x="-72601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NORWAY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Rectangle 84"/>
                <p:cNvSpPr/>
                <p:nvPr/>
              </p:nvSpPr>
              <p:spPr>
                <a:xfrm>
                  <a:off x="-729972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Group 85"/>
              <p:cNvGrpSpPr/>
              <p:nvPr/>
            </p:nvGrpSpPr>
            <p:grpSpPr>
              <a:xfrm>
                <a:off x="-5391720" y="-4689720"/>
                <a:ext cx="1908000" cy="782640"/>
                <a:chOff x="-5391720" y="-4689720"/>
                <a:chExt cx="1908000" cy="782640"/>
              </a:xfrm>
            </p:grpSpPr>
            <p:sp>
              <p:nvSpPr>
                <p:cNvPr id="160" name="Rectangle 86"/>
                <p:cNvSpPr/>
                <p:nvPr/>
              </p:nvSpPr>
              <p:spPr>
                <a:xfrm>
                  <a:off x="-53521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Rectangle 87"/>
                <p:cNvSpPr/>
                <p:nvPr/>
              </p:nvSpPr>
              <p:spPr>
                <a:xfrm>
                  <a:off x="-539172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Group 88"/>
              <p:cNvGrpSpPr/>
              <p:nvPr/>
            </p:nvGrpSpPr>
            <p:grpSpPr>
              <a:xfrm>
                <a:off x="-3483720" y="-4689720"/>
                <a:ext cx="1908000" cy="782640"/>
                <a:chOff x="-3483720" y="-4689720"/>
                <a:chExt cx="1908000" cy="782640"/>
              </a:xfrm>
            </p:grpSpPr>
            <p:sp>
              <p:nvSpPr>
                <p:cNvPr id="163" name="Rectangle 89"/>
                <p:cNvSpPr/>
                <p:nvPr/>
              </p:nvSpPr>
              <p:spPr>
                <a:xfrm>
                  <a:off x="-34441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POLAND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Rectangle 90"/>
                <p:cNvSpPr/>
                <p:nvPr/>
              </p:nvSpPr>
              <p:spPr>
                <a:xfrm>
                  <a:off x="-348372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Group 91"/>
              <p:cNvGrpSpPr/>
              <p:nvPr/>
            </p:nvGrpSpPr>
            <p:grpSpPr>
              <a:xfrm>
                <a:off x="-1575360" y="-4689720"/>
                <a:ext cx="1908000" cy="782640"/>
                <a:chOff x="-1575360" y="-4689720"/>
                <a:chExt cx="1908000" cy="782640"/>
              </a:xfrm>
            </p:grpSpPr>
            <p:sp>
              <p:nvSpPr>
                <p:cNvPr id="166" name="Rectangle 92"/>
                <p:cNvSpPr/>
                <p:nvPr/>
              </p:nvSpPr>
              <p:spPr>
                <a:xfrm>
                  <a:off x="-153576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700" spc="-1" strike="noStrike">
                      <a:solidFill>
                        <a:srgbClr val="000000"/>
                      </a:solidFill>
                      <a:latin typeface="Arial"/>
                    </a:rPr>
                    <a:t>A. Pajak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Rectangle 93"/>
                <p:cNvSpPr/>
                <p:nvPr/>
              </p:nvSpPr>
              <p:spPr>
                <a:xfrm>
                  <a:off x="-157536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Group 94"/>
              <p:cNvGrpSpPr/>
              <p:nvPr/>
            </p:nvGrpSpPr>
            <p:grpSpPr>
              <a:xfrm>
                <a:off x="332280" y="-4689720"/>
                <a:ext cx="1908000" cy="782640"/>
                <a:chOff x="332280" y="-4689720"/>
                <a:chExt cx="1908000" cy="782640"/>
              </a:xfrm>
            </p:grpSpPr>
            <p:sp>
              <p:nvSpPr>
                <p:cNvPr id="169" name="Rectangle 95"/>
                <p:cNvSpPr/>
                <p:nvPr/>
              </p:nvSpPr>
              <p:spPr>
                <a:xfrm>
                  <a:off x="3715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PORTUGAL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Rectangle 96"/>
                <p:cNvSpPr/>
                <p:nvPr/>
              </p:nvSpPr>
              <p:spPr>
                <a:xfrm>
                  <a:off x="33228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Group 97"/>
              <p:cNvGrpSpPr/>
              <p:nvPr/>
            </p:nvGrpSpPr>
            <p:grpSpPr>
              <a:xfrm>
                <a:off x="2240280" y="-4689720"/>
                <a:ext cx="1908000" cy="782640"/>
                <a:chOff x="2240280" y="-4689720"/>
                <a:chExt cx="1908000" cy="782640"/>
              </a:xfrm>
            </p:grpSpPr>
            <p:sp>
              <p:nvSpPr>
                <p:cNvPr id="172" name="Rectangle 98"/>
                <p:cNvSpPr/>
                <p:nvPr/>
              </p:nvSpPr>
              <p:spPr>
                <a:xfrm>
                  <a:off x="22795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700" spc="-1" strike="noStrike">
                      <a:solidFill>
                        <a:srgbClr val="000000"/>
                      </a:solidFill>
                      <a:latin typeface="Arial"/>
                    </a:rPr>
                    <a:t>E. Roch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Rectangle 99"/>
                <p:cNvSpPr/>
                <p:nvPr/>
              </p:nvSpPr>
              <p:spPr>
                <a:xfrm>
                  <a:off x="224028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Group 100"/>
              <p:cNvGrpSpPr/>
              <p:nvPr/>
            </p:nvGrpSpPr>
            <p:grpSpPr>
              <a:xfrm>
                <a:off x="4148640" y="-4689720"/>
                <a:ext cx="1642680" cy="782640"/>
                <a:chOff x="4148640" y="-4689720"/>
                <a:chExt cx="1642680" cy="782640"/>
              </a:xfrm>
            </p:grpSpPr>
            <p:sp>
              <p:nvSpPr>
                <p:cNvPr id="175" name="Rectangle 101"/>
                <p:cNvSpPr/>
                <p:nvPr/>
              </p:nvSpPr>
              <p:spPr>
                <a:xfrm>
                  <a:off x="4187880" y="-4689720"/>
                  <a:ext cx="156348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SPAI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02"/>
                <p:cNvSpPr/>
                <p:nvPr/>
              </p:nvSpPr>
              <p:spPr>
                <a:xfrm>
                  <a:off x="4148640" y="-4689720"/>
                  <a:ext cx="164268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103"/>
              <p:cNvGrpSpPr/>
              <p:nvPr/>
            </p:nvGrpSpPr>
            <p:grpSpPr>
              <a:xfrm>
                <a:off x="5791320" y="-4689720"/>
                <a:ext cx="1907640" cy="782640"/>
                <a:chOff x="5791320" y="-4689720"/>
                <a:chExt cx="1907640" cy="782640"/>
              </a:xfrm>
            </p:grpSpPr>
            <p:sp>
              <p:nvSpPr>
                <p:cNvPr id="178" name="Rectangle 104"/>
                <p:cNvSpPr/>
                <p:nvPr/>
              </p:nvSpPr>
              <p:spPr>
                <a:xfrm>
                  <a:off x="583056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700" spc="-1" strike="noStrike">
                      <a:solidFill>
                        <a:srgbClr val="000000"/>
                      </a:solidFill>
                      <a:latin typeface="Arial"/>
                    </a:rPr>
                    <a:t>S. Sans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05"/>
                <p:cNvSpPr/>
                <p:nvPr/>
              </p:nvSpPr>
              <p:spPr>
                <a:xfrm>
                  <a:off x="5791320" y="-4689720"/>
                  <a:ext cx="190764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Group 106"/>
              <p:cNvGrpSpPr/>
              <p:nvPr/>
            </p:nvGrpSpPr>
            <p:grpSpPr>
              <a:xfrm>
                <a:off x="7699320" y="-4689720"/>
                <a:ext cx="1642680" cy="782640"/>
                <a:chOff x="7699320" y="-4689720"/>
                <a:chExt cx="1642680" cy="782640"/>
              </a:xfrm>
            </p:grpSpPr>
            <p:sp>
              <p:nvSpPr>
                <p:cNvPr id="181" name="Rectangle 107"/>
                <p:cNvSpPr/>
                <p:nvPr/>
              </p:nvSpPr>
              <p:spPr>
                <a:xfrm>
                  <a:off x="7738920" y="-4689720"/>
                  <a:ext cx="156348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SWEDE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Rectangle 108"/>
                <p:cNvSpPr/>
                <p:nvPr/>
              </p:nvSpPr>
              <p:spPr>
                <a:xfrm>
                  <a:off x="7699320" y="-4689720"/>
                  <a:ext cx="164268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Group 109"/>
              <p:cNvGrpSpPr/>
              <p:nvPr/>
            </p:nvGrpSpPr>
            <p:grpSpPr>
              <a:xfrm>
                <a:off x="9342000" y="-4689720"/>
                <a:ext cx="1908000" cy="782640"/>
                <a:chOff x="9342000" y="-4689720"/>
                <a:chExt cx="1908000" cy="782640"/>
              </a:xfrm>
            </p:grpSpPr>
            <p:sp>
              <p:nvSpPr>
                <p:cNvPr id="184" name="Rectangle 110"/>
                <p:cNvSpPr/>
                <p:nvPr/>
              </p:nvSpPr>
              <p:spPr>
                <a:xfrm>
                  <a:off x="938160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700" spc="-1" strike="noStrike">
                      <a:solidFill>
                        <a:srgbClr val="000000"/>
                      </a:solidFill>
                      <a:latin typeface="Arial"/>
                    </a:rPr>
                    <a:t>N. Hammar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Rectangle 111"/>
                <p:cNvSpPr/>
                <p:nvPr/>
              </p:nvSpPr>
              <p:spPr>
                <a:xfrm>
                  <a:off x="934200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Group 112"/>
              <p:cNvGrpSpPr/>
              <p:nvPr/>
            </p:nvGrpSpPr>
            <p:grpSpPr>
              <a:xfrm>
                <a:off x="11250000" y="-4689720"/>
                <a:ext cx="1642680" cy="782640"/>
                <a:chOff x="11250000" y="-4689720"/>
                <a:chExt cx="1642680" cy="782640"/>
              </a:xfrm>
            </p:grpSpPr>
            <p:sp>
              <p:nvSpPr>
                <p:cNvPr id="187" name="Rectangle 113"/>
                <p:cNvSpPr/>
                <p:nvPr/>
              </p:nvSpPr>
              <p:spPr>
                <a:xfrm>
                  <a:off x="11289600" y="-4689720"/>
                  <a:ext cx="156348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UK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Rectangle 114"/>
                <p:cNvSpPr/>
                <p:nvPr/>
              </p:nvSpPr>
              <p:spPr>
                <a:xfrm>
                  <a:off x="11250000" y="-4689720"/>
                  <a:ext cx="164268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Group 115"/>
              <p:cNvGrpSpPr/>
              <p:nvPr/>
            </p:nvGrpSpPr>
            <p:grpSpPr>
              <a:xfrm>
                <a:off x="12893040" y="-4689720"/>
                <a:ext cx="1908000" cy="782640"/>
                <a:chOff x="12893040" y="-4689720"/>
                <a:chExt cx="1908000" cy="782640"/>
              </a:xfrm>
            </p:grpSpPr>
            <p:sp>
              <p:nvSpPr>
                <p:cNvPr id="190" name="Rectangle 116"/>
                <p:cNvSpPr/>
                <p:nvPr/>
              </p:nvSpPr>
              <p:spPr>
                <a:xfrm>
                  <a:off x="1293264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P. Primatest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117"/>
                <p:cNvSpPr/>
                <p:nvPr/>
              </p:nvSpPr>
              <p:spPr>
                <a:xfrm>
                  <a:off x="1289304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Group 118"/>
              <p:cNvGrpSpPr/>
              <p:nvPr/>
            </p:nvGrpSpPr>
            <p:grpSpPr>
              <a:xfrm>
                <a:off x="14801040" y="-4689720"/>
                <a:ext cx="1642680" cy="782640"/>
                <a:chOff x="14801040" y="-4689720"/>
                <a:chExt cx="1642680" cy="782640"/>
              </a:xfrm>
            </p:grpSpPr>
            <p:sp>
              <p:nvSpPr>
                <p:cNvPr id="193" name="Rectangle 119"/>
                <p:cNvSpPr/>
                <p:nvPr/>
              </p:nvSpPr>
              <p:spPr>
                <a:xfrm>
                  <a:off x="14840640" y="-4689720"/>
                  <a:ext cx="156348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EUROPEAN HEART NETWORK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Rectangle 120"/>
                <p:cNvSpPr/>
                <p:nvPr/>
              </p:nvSpPr>
              <p:spPr>
                <a:xfrm>
                  <a:off x="14801040" y="-4689720"/>
                  <a:ext cx="164268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Group 121"/>
              <p:cNvGrpSpPr/>
              <p:nvPr/>
            </p:nvGrpSpPr>
            <p:grpSpPr>
              <a:xfrm>
                <a:off x="16443720" y="-4689720"/>
                <a:ext cx="1908000" cy="782640"/>
                <a:chOff x="16443720" y="-4689720"/>
                <a:chExt cx="1908000" cy="782640"/>
              </a:xfrm>
            </p:grpSpPr>
            <p:sp>
              <p:nvSpPr>
                <p:cNvPr id="196" name="Rectangle 122"/>
                <p:cNvSpPr/>
                <p:nvPr/>
              </p:nvSpPr>
              <p:spPr>
                <a:xfrm>
                  <a:off x="164833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Rectangle 123"/>
                <p:cNvSpPr/>
                <p:nvPr/>
              </p:nvSpPr>
              <p:spPr>
                <a:xfrm>
                  <a:off x="1644372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8" name="Rectangle 124"/>
            <p:cNvSpPr/>
            <p:nvPr/>
          </p:nvSpPr>
          <p:spPr>
            <a:xfrm>
              <a:off x="-9212400" y="-9867960"/>
              <a:ext cx="27568800" cy="5965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9" name=""/>
          <p:cNvGraphicFramePr/>
          <p:nvPr/>
        </p:nvGraphicFramePr>
        <p:xfrm>
          <a:off x="1258920" y="1838160"/>
          <a:ext cx="6769080" cy="4632480"/>
        </p:xfrm>
        <a:graphic>
          <a:graphicData uri="http://schemas.openxmlformats.org/drawingml/2006/table">
            <a:tbl>
              <a:tblPr/>
              <a:tblGrid>
                <a:gridCol w="2236680"/>
                <a:gridCol w="45324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AUST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K. Steinbach – Austrian Hearth Foundation, Wi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BELG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M. Kornitzer – School of Public Health, Bruxel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CZECH REPUBL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J. Holub – Institute of Health Information and Statistics, Pra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DENM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M. Madsen – National Institute of Public Health, Copenhag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IN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V. Salomaa – National Public Health Institute, Helsink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R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J. Bloch, C. Peretti – Institut de Veille Sanitarie, Saint Maur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ERMA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A. Doering – Insitute für Epidemiologie GSF, Neuherber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HUNG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R. Adany – School of Public Health, Debrec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TALY (COORDINATO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S. Giampaoli, L. Palmieri, P. Ciccarelli, S. Panico, D. Vanuzzo, Ro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CE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V. Gudnason – Iceland Heart Association, Kopavog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REE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A. Trichopoulou – School of Medicine, Athe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The NETHERLA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M. Verschuren – National Institute of Public Health and E. Bilthov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W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S. Graff-Iversen – Norvegian Insitute of Public Health, Os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PO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A. Pajak – Institut of Public Health, Krak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PORTUG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E. Rocha – Insituto de medicina Preventiva, Lisb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P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S. Sans – Institut d'Estudis de la Salut, Barcelo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WE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N. Hammar – Karolinska Institute, Stockhol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U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P. Primatesta – </a:t>
                      </a:r>
                      <a:r>
                        <a:rPr b="1" lang="en-GB" sz="1000" spc="-1" strike="noStrike">
                          <a:solidFill>
                            <a:srgbClr val="406000"/>
                          </a:solidFill>
                          <a:latin typeface="Comic Sans MS"/>
                          <a:ea typeface="Times New Roman"/>
                        </a:rPr>
                        <a:t>Univ. College London Medical School, Lond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EUROPEAN HEART NETWO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S. Allender – University of Oxford, Oxf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Object 169"/>
          <p:cNvGraphicFramePr/>
          <p:nvPr/>
        </p:nvGraphicFramePr>
        <p:xfrm>
          <a:off x="611280" y="557280"/>
          <a:ext cx="3995640" cy="135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1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557280"/>
                    <a:ext cx="399564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Object 2"/>
          <p:cNvGraphicFramePr/>
          <p:nvPr/>
        </p:nvGraphicFramePr>
        <p:xfrm>
          <a:off x="1979640" y="1512720"/>
          <a:ext cx="5187960" cy="45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512720"/>
                    <a:ext cx="5187960" cy="4508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4" name="Rectangle 3"/>
          <p:cNvSpPr/>
          <p:nvPr/>
        </p:nvSpPr>
        <p:spPr>
          <a:xfrm>
            <a:off x="3407040" y="746280"/>
            <a:ext cx="209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c43f"/>
                </a:solidFill>
                <a:latin typeface="Arial"/>
              </a:rPr>
              <a:t>The map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ject 4"/>
          <p:cNvGraphicFramePr/>
          <p:nvPr/>
        </p:nvGraphicFramePr>
        <p:xfrm>
          <a:off x="7380360" y="-27000"/>
          <a:ext cx="1763640" cy="600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80360" y="-27000"/>
                    <a:ext cx="17636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539640" y="606600"/>
            <a:ext cx="8061480" cy="51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381240" algn="ctr">
              <a:lnSpc>
                <a:spcPct val="100000"/>
              </a:lnSpc>
              <a:tabLst>
                <a:tab algn="l" pos="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bbe0e3"/>
                </a:solidFill>
                <a:latin typeface="Arial"/>
                <a:ea typeface="Times New Roman"/>
              </a:rPr>
              <a:t>Main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700"/>
              </a:spcBef>
              <a:buClr>
                <a:srgbClr val="6aa94e"/>
              </a:buClr>
              <a:buFont typeface="Comic Sans MS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6000"/>
                </a:solidFill>
                <a:latin typeface="Arial"/>
                <a:ea typeface="Times New Roman"/>
              </a:rPr>
              <a:t>To prioritise cardiovascular disease of major interest in EU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6000"/>
                </a:solidFill>
                <a:latin typeface="Arial"/>
                <a:ea typeface="Times New Roman"/>
              </a:rPr>
              <a:t>To provide a list of specific indicators and sources of information for monitoring C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6000"/>
                </a:solidFill>
                <a:latin typeface="Arial"/>
                <a:ea typeface="Times New Roman"/>
              </a:rPr>
              <a:t>To prepare the Manual of Operations for the implementation of population-based registers of acute myocardial infarction/acute coronary syndrome, stroke and of CVD 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3"/>
          <p:cNvGraphicFramePr/>
          <p:nvPr/>
        </p:nvGraphicFramePr>
        <p:xfrm>
          <a:off x="7380360" y="0"/>
          <a:ext cx="1763640" cy="60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0360" y="0"/>
                    <a:ext cx="17636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340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d47c06"/>
                </a:solidFill>
                <a:latin typeface="Arial"/>
              </a:rPr>
              <a:t>EUROCISS Recommendations for mortality indic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78487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AMI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ICD10 codes I20-I21 (ICD9: 4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IHD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ICD10 codes I20-I25 (ICD9: 410-4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CVA 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ICD10 codes I60-I69 (ICD9: 430-4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Ischaemic STROKE 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ICD10 code I64 (ICD9: 4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Haemorragic STROK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(Intracerebral) ICD10 codes I61, I62 (ICD9: 431, 4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(Subarachnoid) ICD10 code I60 (ICD9: 4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Age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54800"/>
                </a:solidFill>
                <a:latin typeface="Arial"/>
              </a:rPr>
              <a:t>35-44, 45-54, 55-64, 65-74 and 75-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406000"/>
                </a:solidFill>
                <a:latin typeface="Arial"/>
              </a:rPr>
              <a:t>Indicators should be standardised by age and gender using the European standard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it-IT" sz="3200" spc="-1" strike="noStrike">
                <a:solidFill>
                  <a:srgbClr val="d67c0e"/>
                </a:solidFill>
                <a:latin typeface="Arial"/>
              </a:rPr>
              <a:t>Population-based specific AMI Registers:</a:t>
            </a:r>
            <a:r>
              <a:rPr b="0" lang="it-IT" sz="3200" spc="-1" strike="noStrike">
                <a:solidFill>
                  <a:srgbClr val="d67c0e"/>
                </a:solidFill>
                <a:latin typeface="Arial"/>
              </a:rPr>
              <a:t> </a:t>
            </a:r>
            <a:br>
              <a:rPr sz="3200"/>
            </a:br>
            <a:r>
              <a:rPr b="0" i="1" lang="it-IT" sz="3200" spc="-1" strike="noStrike">
                <a:solidFill>
                  <a:srgbClr val="d67c0e"/>
                </a:solidFill>
                <a:latin typeface="Arial"/>
              </a:rPr>
              <a:t>population characteristics</a:t>
            </a:r>
            <a:r>
              <a:rPr b="0" lang="it-IT" sz="3200" spc="-1" strike="noStrike">
                <a:solidFill>
                  <a:srgbClr val="d67c0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57200" y="1600200"/>
          <a:ext cx="8229600" cy="4465800"/>
        </p:xfrm>
        <a:graphic>
          <a:graphicData uri="http://schemas.openxmlformats.org/drawingml/2006/table">
            <a:tbl>
              <a:tblPr/>
              <a:tblGrid>
                <a:gridCol w="2111400"/>
                <a:gridCol w="1592280"/>
                <a:gridCol w="1270080"/>
                <a:gridCol w="1671480"/>
                <a:gridCol w="1584360"/>
              </a:tblGrid>
              <a:tr h="547200"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ge r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opul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x 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ccess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8046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Belgiu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Charlero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h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3-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74 (Ghen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2 (Ghen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chool of Public Health/University of Gh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Belgium Bru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99-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iv. of Gh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thern Denm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78-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arhus  Uni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in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93-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5-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5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SERM U7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erm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5-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SF – K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30348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ta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98-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,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stitute of Heal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35388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w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72-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alth Region 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44172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p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5-19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stitute of Health Stud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5908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thern Swed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7-20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</a:tbl>
          </a:graphicData>
        </a:graphic>
      </p:graphicFrame>
      <p:pic>
        <p:nvPicPr>
          <p:cNvPr id="214" name="Picture 77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124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d67c0e"/>
                </a:solidFill>
                <a:latin typeface="Arial"/>
              </a:rPr>
              <a:t>Population-based specific AMI Registers:</a:t>
            </a:r>
            <a:r>
              <a:rPr b="0" lang="it-IT" sz="2800" spc="-1" strike="noStrike">
                <a:solidFill>
                  <a:srgbClr val="d67c0e"/>
                </a:solidFill>
                <a:latin typeface="Arial"/>
              </a:rPr>
              <a:t> </a:t>
            </a:r>
            <a:br>
              <a:rPr sz="2800"/>
            </a:br>
            <a:r>
              <a:rPr b="0" lang="it-IT" sz="2800" spc="-1" strike="noStrike">
                <a:solidFill>
                  <a:srgbClr val="d67c0e"/>
                </a:solidFill>
                <a:latin typeface="Arial"/>
              </a:rPr>
              <a:t> </a:t>
            </a:r>
            <a:r>
              <a:rPr b="0" i="1" lang="it-IT" sz="2800" spc="-1" strike="noStrike">
                <a:solidFill>
                  <a:srgbClr val="d67c0e"/>
                </a:solidFill>
                <a:latin typeface="Arial"/>
              </a:rPr>
              <a:t>case definition</a:t>
            </a:r>
            <a:r>
              <a:rPr b="0" lang="it-IT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971640" y="1171440"/>
          <a:ext cx="7345440" cy="5291280"/>
        </p:xfrm>
        <a:graphic>
          <a:graphicData uri="http://schemas.openxmlformats.org/drawingml/2006/table">
            <a:tbl>
              <a:tblPr/>
              <a:tblGrid>
                <a:gridCol w="1886040"/>
                <a:gridCol w="649080"/>
                <a:gridCol w="1041480"/>
                <a:gridCol w="1166760"/>
                <a:gridCol w="1235160"/>
                <a:gridCol w="1366920"/>
              </a:tblGrid>
              <a:tr h="63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ount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ICD ver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ortality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ICD codes(*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HD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ICD codes(*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ink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ortality / HD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alid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Belgi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X, 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, 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CA, CA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CG, enzymes, symptoms, 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thern Denma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52560"/>
                          <a:tab algn="l" pos="1041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52560"/>
                          <a:tab algn="l" pos="1041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52560"/>
                          <a:tab algn="l" pos="1041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valid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inl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, 428,798, 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CA, CA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, tropon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r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X, 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, 798, 799, oth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erman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798,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CA, CA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, tropon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ta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798,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w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CA, CA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oponin/CKMB lev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pa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, 798, 799, oth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thern Sweden – 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</a:tbl>
          </a:graphicData>
        </a:graphic>
      </p:graphicFrame>
      <p:pic>
        <p:nvPicPr>
          <p:cNvPr id="217" name="Picture 82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5317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3"/>
          <p:cNvSpPr/>
          <p:nvPr/>
        </p:nvSpPr>
        <p:spPr>
          <a:xfrm>
            <a:off x="1679760" y="6467400"/>
            <a:ext cx="5775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(*) all codes are presented in the ICD-9 revision to facilitate the comparison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d47c06"/>
                </a:solidFill>
                <a:latin typeface="Arial"/>
              </a:rPr>
              <a:t>MONIC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54800"/>
                </a:solidFill>
                <a:latin typeface="Arial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Comparable and reliabl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Hot-cold pursuit to identify suspected events in all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All events validated during registration period</a:t>
            </a:r>
            <a:r>
              <a:rPr b="1" lang="en-GB" sz="2400" spc="-1" strike="noStrike">
                <a:solidFill>
                  <a:srgbClr val="3548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54800"/>
                </a:solidFill>
                <a:latin typeface="Arial"/>
              </a:rPr>
              <a:t>Lim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Coverage (only some areas of coun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Age range (35-6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Dated [1985-1996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ernational sources of da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O Global Info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data warehouse that collects, stores and displays information on chronic diseases and their risk factors for all WHO member sta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903600" y="4869000"/>
            <a:ext cx="41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who.int/infobase/report.a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isk factors included in InfoB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lood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et - Low fruit and veget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verweight &amp; Obe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hysical Activity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jc_1a"/>
          <p:cNvPicPr/>
          <p:nvPr/>
        </p:nvPicPr>
        <p:blipFill>
          <a:blip r:embed="rId1"/>
          <a:stretch/>
        </p:blipFill>
        <p:spPr>
          <a:xfrm>
            <a:off x="468360" y="333360"/>
            <a:ext cx="763740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jc_1b"/>
          <p:cNvPicPr/>
          <p:nvPr/>
        </p:nvPicPr>
        <p:blipFill>
          <a:blip r:embed="rId1"/>
          <a:stretch/>
        </p:blipFill>
        <p:spPr>
          <a:xfrm>
            <a:off x="395280" y="404640"/>
            <a:ext cx="8209080" cy="59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Bar2DHorizontal1222706638199998a1mo_cg_059mo_cc_104_Big"/>
          <p:cNvPicPr/>
          <p:nvPr/>
        </p:nvPicPr>
        <p:blipFill>
          <a:blip r:embed="rId1"/>
          <a:stretch/>
        </p:blipFill>
        <p:spPr>
          <a:xfrm>
            <a:off x="762120" y="549360"/>
            <a:ext cx="761976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Bar2DHorizontal-1356485970199999a17cd_07010_Small"/>
          <p:cNvPicPr/>
          <p:nvPr/>
        </p:nvPicPr>
        <p:blipFill>
          <a:blip r:embed="rId1"/>
          <a:stretch/>
        </p:blipFill>
        <p:spPr>
          <a:xfrm>
            <a:off x="611280" y="333360"/>
            <a:ext cx="79912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APCSC_Map"/>
          <p:cNvPicPr/>
          <p:nvPr/>
        </p:nvPicPr>
        <p:blipFill>
          <a:blip r:embed="rId1"/>
          <a:stretch/>
        </p:blipFill>
        <p:spPr>
          <a:xfrm>
            <a:off x="684360" y="1197000"/>
            <a:ext cx="7775280" cy="51483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1473120" y="404640"/>
            <a:ext cx="67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sia-Pacific Studies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sia Pacific Studies Collaboration - APCS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ividual patient data meta-analysis from existing longitudinal studies with information on cardiovascular disease in the Asia Pacifi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ject's main research theme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sk factors for cardiovascular dise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ractions between risk factors for cardiovascular dise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evalence and attributable risk for five major cardiovascular disease risk fac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relationship of cancer incidence to cardiovascular disease risk fac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ver 650,000 participants, 44 separate cohort studies in mainland China, Hong Kong, Taiwan, Japan, South Korea, Singapore, Thailand, New Zealand and Austral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5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aper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rom the project have been published or are in press in international peer reviewed journals. http://www.apcsc.inf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ernational - Global Burdens of Disease Project (GB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 Project, commenced 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ld Bank, Harvard School of Public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rehensive and consistent set of estimates of mortality and morbidity by age, sex, region for world for first time for 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measure – DALY (Disability Adjusted Life Year) – includes premature deaths and disability, weighted by severity of dis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FA 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50920" y="1352520"/>
            <a:ext cx="86421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B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1/3 estimated 56 million deaths occurring annual are recorded in vital registratio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s estimates from these plus disease registers, population surveys, epidemiological studies to “fill in the gap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47c06"/>
                </a:solidFill>
                <a:latin typeface="Arial"/>
              </a:rPr>
              <a:t>HFA DB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79280" y="723960"/>
            <a:ext cx="878544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-282600" y="1052640"/>
            <a:ext cx="9709200" cy="57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D rates &amp; Life expecta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-282600" y="1700280"/>
            <a:ext cx="970920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d47c06"/>
                </a:solidFill>
                <a:latin typeface="Arial"/>
              </a:rPr>
              <a:t>HFA DB</a:t>
            </a:r>
            <a:br>
              <a:rPr sz="4000"/>
            </a:br>
            <a:r>
              <a:rPr b="1" lang="it-IT" sz="3600" spc="-1" strike="noStrike">
                <a:solidFill>
                  <a:srgbClr val="d47c06"/>
                </a:solidFill>
                <a:latin typeface="Arial"/>
              </a:rPr>
              <a:t>(European Health For All Databa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54800"/>
                </a:solidFill>
                <a:latin typeface="Arial"/>
              </a:rPr>
              <a:t>Advant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Covers all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User friendly web ac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Nice graphics for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54800"/>
                </a:solidFill>
                <a:latin typeface="Arial"/>
              </a:rPr>
              <a:t>Limi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Data not standardi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Dated (most recent 2001- 20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     </a:t>
            </a: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LIMIT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Reliable indicators for monitoring CVD and for which data are available on a comparable basis across EU countries are currently limite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Even mortality is scarcely comparable since the diagnostic criteria for coding death certificates are not standardized at international level and diagnostic information is not based on uniform criter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47c06"/>
                </a:solidFill>
                <a:latin typeface="Arial"/>
              </a:rPr>
              <a:t>CVD international sources include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WHO-mort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WHO-MO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EUROCISS inventory of population-based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4T11:23:38Z</dcterms:created>
  <dc:creator>Julia Critchley</dc:creator>
  <dc:description/>
  <dc:language>en-US</dc:language>
  <cp:lastModifiedBy>Computing Services</cp:lastModifiedBy>
  <dcterms:modified xsi:type="dcterms:W3CDTF">2008-04-14T10:19:54Z</dcterms:modified>
  <cp:revision>12</cp:revision>
  <dc:subject/>
  <dc:title>Slide 1</dc:title>
</cp:coreProperties>
</file>